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A39-93CA-4DE0-AF59-D0C21D2A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648-3E0D-48EF-B96E-48BCB89D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A22-F0F0-43D7-91DB-56647BE5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680-99B8-4616-95B5-D1629DB4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70B-EA35-4E78-956D-0942258C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1F8-C6B4-4330-AFB3-F2ECEF8C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01B-F779-45A0-9E29-C14C54A2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6D2-E2D3-4C55-8EF0-44A6E77D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809D-C3E4-4A0D-9E8F-CB3C6D05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A57-2D46-49D0-BD8F-119D4CEA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551-01E5-4F14-962F-B4CC289C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43A-B4B5-4D6C-9001-4A778606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c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F220-F6A4-4A31-B899-BF11B74CB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 Revie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Fisher Midg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y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choice, tone, degree of formality, and figur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All of the authors of the short stories we read show a certain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p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gure of speech in which one thing is spoken of as though it were something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Santiago describes the sharks teeth as knives, but they really are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ief that reality exists independently of observers, whether in philosophy itself or in the applied arts and sci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The whole book “From Moby Dick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erary movement taking place from the 1880s to 1940s that used detailed realism  to suggest that social conditions, heredity, and environment had inescapable force in shaping human charac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The book “To Build a Fir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Detai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that show a history in an object, person, or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Captain Ahab’s peg leg shows what had happened on the previous encounter with the wh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conflict is a mental or emotional struggle that occurs within a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Captain Ahab’s hatred towards the wh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conflict is a struggle that occurs between a character and outside forces, which could be another character or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In “To Build a Fire”, the character struggles with the 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feature exploration, danger, conflicts, strange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“From Moby Dick”- because Ahab goes on the adventure of finding Moby D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that stands for or represents some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Santiago’s eyes stand for his youth even though he is growing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e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 in literature found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In “The Old Man and the Sea”, fishing is an archetype because many people around the world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 at the beginning of a ch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There was a quote at the beginning of the short story “Ambush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tic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erary and artistic movement in the early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that placed a premium on imagination, emotion, nature, and individ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“The Old Man and the Sea” is an example of romant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derness Got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primitive, medieval, or wild in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“To Build a Fire” is an example of Wilderness Goth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ivity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arrative of someone who is cap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In “To Build a Fire”, the man is basically taken captive by the cold as it won’t let him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ory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or speech that appeals to one or more of the five s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When Santiago tells of how the tuna tastes as he is fighting the big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4:15:11Z</dcterms:created>
  <dc:creator>dcsuser</dc:creator>
  <dc:description/>
  <dc:language>en-US</dc:language>
  <cp:lastModifiedBy>FISHER</cp:lastModifiedBy>
  <dcterms:modified xsi:type="dcterms:W3CDTF">2012-03-19T01:20:35Z</dcterms:modified>
  <cp:revision>7</cp:revision>
  <dc:subject/>
  <dc:title>Vocab Review </dc:title>
</cp:coreProperties>
</file>